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9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59BF-7F82-4460-A7AD-8F50D46D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1CD-5A01-4743-9BA6-35F0D4C8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0AE-B96F-4532-80FC-A3822C9B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4DB-1B27-4503-B5A9-62046A75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F85-39A3-42AA-BAD1-A5E5F7AB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C9F-5B79-42D7-8DAF-7926395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13B-3992-4DA1-87A4-7C82D71C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41A-B899-4B3C-B35C-339FD422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8A4-0101-48C6-BAB7-A2237A96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458-4F96-4BB5-8A97-EA21CD69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922-2199-4B7A-9E6E-0777668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A44-AF9C-4B0D-95F2-6ACFC3C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12DE-5617-4032-B726-A6574E9B74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276640"/>
            <a:ext cx="504180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八荣八耻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16000" y="1413000"/>
            <a:ext cx="42116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遵纪守法为荣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违法乱 纪为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0" y="2708280"/>
            <a:ext cx="4572000" cy="414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72000" cy="55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43280" y="1341000"/>
            <a:ext cx="4105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艰苦奋斗为荣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骄奢淫逸为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140360" cy="551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40360" y="2781360"/>
            <a:ext cx="5003640" cy="40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195640" y="1557360"/>
            <a:ext cx="6626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麦当劳行为值的商榷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71640" y="260280"/>
            <a:ext cx="1162872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热点讨论                                            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268360" cy="212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11280" y="2276640"/>
            <a:ext cx="67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早上翻看新闻，两条关于麦当劳的新闻吸引了我的注意。一说“价格降分量减 麦当劳套餐促销使用障眼法”，一为“京麦当劳出售过期草莓酱 卖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能调货出错”（均为《京华时报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）。在这两篇文章中，麦当劳面对记者和当事人的质询，都没有显示出一个老牌餐饮企业的“诚信”态度，也没有给出一个令人信服的答案和处理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292640"/>
            <a:ext cx="65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的武汉麦当劳的“毒油”事件到转基因食品事件；最令人寒心的则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在麦当劳的英文网站的国家列表中出现了“香港、台湾”的英文名称，却在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选项中找不到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hina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4968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武大樱花是荣是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71640" y="260280"/>
            <a:ext cx="1162872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热点讨论                                            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305080"/>
            <a:ext cx="6048360" cy="455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41680" y="2176560"/>
            <a:ext cx="11023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大的樱花主要来自日本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日军攻陷武汉，将司令部和后勤部门设于武汉大学。为了缓解住在这里休养的大批日本伤兵的思乡之情，同时亦有炫耀武功和长期占领之意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起，日军从日本本地移植樱花，种在了珞珈山上。这即是今日武大樱花的缘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981000"/>
            <a:ext cx="40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小事见荣辱</a:t>
            </a: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6680" y="1773360"/>
            <a:ext cx="454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197000"/>
            <a:ext cx="428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想拉就拉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在梦幻的睡公主城堡前，一名小男孩在母亲的督促下，光着屁股在角落里小便。小孩的母亲来自广州，她投诉说：“这里很不方便，我想找地储存物品也找不到，指示又不明确。”她指儿子想和卡通人物拍照，但又不肯乖乖排队，被人投诉，一时尿急，于是就地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7689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1125360"/>
            <a:ext cx="40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小事见荣辱</a:t>
            </a:r>
            <a:r>
              <a:rPr b="1" lang="zh-CN" sz="4400" spc="-1" strike="noStrike">
                <a:solidFill>
                  <a:srgbClr val="ffffff"/>
                </a:solidFill>
                <a:latin typeface="幼圆"/>
                <a:ea typeface="幼圆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349280"/>
            <a:ext cx="3492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cc00"/>
                </a:solidFill>
                <a:uFillTx/>
                <a:latin typeface="Arial"/>
                <a:ea typeface="楷体_GB2312"/>
              </a:rPr>
              <a:t>难以下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到清新县寻访贫困大学生的北京志愿者，面对招待她们的盛宴难以下咽。报道说，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位来自北京的志愿者，到清新县寻访贫困大学生，在县教育局招待她们的一桌晚餐上，面对鸡鸭鱼和洋酒人头马流下了眼泪，并质问教育局几名干部，“一桌盛宴可以帮助该县的贫困大学生解决多少实际困难？”</a:t>
            </a:r>
            <a:r>
              <a:rPr b="0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933560"/>
            <a:ext cx="5580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91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一个人以八荣八耻为镜子的时候就明白自己更多些；当一个人终身以八荣八耻为镜子的时候，他就能与世界上最伟大的人们比肩齐高！请看这一串光辉的名字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050920" cy="142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2050920" cy="154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1135080" cy="141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11280" y="2924280"/>
            <a:ext cx="67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周恩来，他一生服务人民，鞠躬尽瘁，死而后已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4005360"/>
            <a:ext cx="56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钱学森，中国导弹之父，美国说他抵三个师，在新中国诞生后毅然回到自己的祖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5516640"/>
            <a:ext cx="65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李四光，当外国专家定论中国没有石油时，他自信地说：科学证明中国有储量丰富的油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268280"/>
            <a:ext cx="74170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八荣八耻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作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作曲： 王建平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新时代的号角催人奋进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八荣八耻铭记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热爱祖国最光荣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危害祖国罪孽深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服务人民主义真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背离人民丢根本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崇尚科学谋巨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愚昧无知落贫困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辛勤劳动创基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好逸恶劳酿祸根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团结互助为表率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损人利己勿容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诚实守信高风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见利忘义要痛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遵纪守法求奉献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违法乱纪毁终身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艰苦奋斗为法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骄奢淫逸定沉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善恶美丑划得清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旗帜鲜明是非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盛世和谐多壮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弘扬中华民族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盛世和谐多壮举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弘扬中华民族魂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2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85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1989000"/>
            <a:ext cx="838836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题班会到此结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感谢各位领导、老师、同学们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720" y="1483920"/>
            <a:ext cx="586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提出树立社会主义荣辱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共中央总书记、国家主席、中央军委主席胡锦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下午在政协民盟民进联组会上关于树立社会主义荣辱观的讲话，在两会代表委员中产生热烈反响，他们纷纷表示，胡锦涛讲话中提出的“八个为荣、八个为耻”，全面阐述了树立正确价值观的具体要求，对明确是非、善恶、美丑界限，推动形成良好社会风气，具有重要的现实指导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3600360" cy="279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42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0720" y="1341360"/>
            <a:ext cx="450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热爱祖国为荣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危害祖国为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71636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427640" cy="5445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5360" y="1412640"/>
            <a:ext cx="414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服务人民为荣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背离人民为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859280" cy="551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2637000"/>
            <a:ext cx="428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44960" y="1557000"/>
            <a:ext cx="419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崇尚科学为荣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愚昧无知为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148360" cy="544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48360" y="2637000"/>
            <a:ext cx="3995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87640" y="1483920"/>
            <a:ext cx="412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辛勤劳动为荣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好逸恶劳为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441680" cy="5516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716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0" y="1412640"/>
            <a:ext cx="403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以团结互助为荣以损人利己为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551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59280" y="2565360"/>
            <a:ext cx="42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67280" y="2997360"/>
            <a:ext cx="4176720" cy="386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03640" y="141300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诚实守信为荣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以见利忘义为耻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03640" cy="5516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12:59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46:41Z</dcterms:modified>
  <cp:revision>39</cp:revision>
  <dc:subject>主题班会课件(分28大类): http://shop62905894.taobao.com</dc:subject>
  <dc:title>主题班会课件(分28大类): http://shop62905894.taobao.com</dc:title>
</cp:coreProperties>
</file>